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E921-1319-4DF1-9F26-BF4C53B67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D73B-5314-4CE8-B620-530AB733A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DA771D-76F8-4308-8085-FBB3476C2D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BA406-C007-4C5F-A6D8-D15D7F8DD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C47D9-B875-414E-A5E2-6C68ACAE43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0581C-70CC-426A-B108-52EE1B789A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38404-79A8-4C8E-A3F9-57EB101B1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8FA2E-6F9A-4348-98AF-8BDC11F29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A931C-8DDF-4062-890A-7B91E577F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E55206-466C-4009-9E8C-44146665B5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C3876-987F-4151-99AB-41B0BAC1DD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9D8070-6FCA-4691-9767-34FADA2BA9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39547-A0D9-4F87-B5DF-EFEA3E4CA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23347B-E276-4346-AD69-8BF81D8BA2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ED7DD2-94E4-4327-8E03-6B02383098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BF47BE-6C91-4C78-9389-7722636BF2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BFD140-C1F8-4780-9C11-53836CFE77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2AC6BF-9C21-4981-95A6-24551B0A6C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193360-7246-48AF-BCFA-650599A49C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6A8717-3481-4E75-9D5D-EF8AB5FE1E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E9B198-7064-44DB-94EC-DF3E52BD64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8FE41A-910B-4EBA-82BE-8A8CB43BD7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905FDC-6C82-4F9C-9B1F-DA6B17CC57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6600D-A483-4669-A55C-D1FCF1C4D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67C90D-33FF-4828-B1C7-45E57AE83F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794188-5D0D-49DF-85A2-C9E5E99C71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DBFF76-FE76-45E5-95BC-6ABED3C56E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43EB7A-C0DB-4E20-A4D5-25EBB1BD67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16BC7F-D27C-433A-B78D-70F329FF15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A3377E-4C8C-4E18-B11B-8086B6203C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D52C4B-E7E4-41F3-AF8F-8673317AA9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AC91D4-EFEC-4309-B16F-D6E3BE5A3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F86D63-364F-4B0A-BEF9-8A57ADD61D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2A51B-DFCE-4420-9D88-3004DBA6C1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692B5-4A8E-4262-B60E-FA71DA312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CD90DD-C606-4099-B575-D0335EFAD6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6F70910-41D7-49ED-8908-0D7EF952D5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A64302-33A9-44A1-83F5-B11C685C8D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2E10C5-4FB5-4001-972C-D0216773A6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7B2C82-B312-4597-9334-5971FA72D5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0F41A1-3E17-43F6-9CAA-D3E7F824B2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4B44D5-86B8-44E0-91F7-FC06BED73F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5E96D2-1383-4717-A395-53FE5B1BFC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812965-D80C-49F6-A4AD-35911B559C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C79291-578B-4784-8D26-8A175ADE20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EF758-C3F5-4B32-BD8B-847774403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694A59-D2DC-473B-8C3E-9B6A46819F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8077A2-984D-411C-865B-9A5902242E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8919F9-54F7-469A-8525-B0D0982683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F5E7B9-BF51-4023-8E83-314C764083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0DBD9A-54B9-4650-B06F-8606619AB4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FF0BE9-741E-40B9-92E5-EA3526E574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8DE190-FBD2-43D0-8B32-7937773D96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179AA8-DD09-4307-94E9-0FE6C992B4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9DA5BC-01F5-45B5-9AB0-AB1EDD9E69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5306E4-E741-42C5-827F-8FA48A119B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D645A-598D-4F6C-8245-643BFE43E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2ABA24-801A-465F-8CB8-DD638C69B0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02143C-AFB9-4F31-93DE-98DE540CC0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C1A4B-DFFC-4925-A479-1B7C3D1925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50D19F-B5D3-4014-898C-0477AF3821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A39F50-488F-4AD3-9FB6-5CA3464574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682AF0-7187-47A9-B577-43D645BCE7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6766B4-9CAA-4CD5-BE03-21BCFCED9E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484FEE-03C7-48E3-A3F9-B656E399D91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A14752-4724-4C3B-B643-53B9A718F2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1AD1A3-0CA1-4E4C-AB62-2F0F1F3CF2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1209E-36F5-46B0-AA36-3E2B6202F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3CD0FB-6582-429F-9F63-ECC73AB338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E37274-5FA0-456A-92DA-439CE1D34D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95A51C-9107-4117-BE1A-4E8CEFF947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FF153C-DF18-4FDA-A6F5-A500C389E2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B4BD66-D032-4861-BE2B-84A6EDDB76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7D1902-2881-4E5D-8F4D-3090A57FFF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64875D-A87C-4A6E-9319-285C1A8CF3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D7793A-E0AC-4FB8-8F63-4146286CF0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86F672-7E50-4AEA-97FC-8621A5C5C42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7E8E37D-34C6-4DE8-9ADB-D210C005326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D17A1-3C92-418E-BF21-58511EBE9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C716B4D-D8BC-44F8-A65A-751D9D959E41}"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D2D49C34-D0A3-41DC-8E53-685B466B60A5}"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7A69294-0835-4510-ADC4-49FD5DC0A33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95192F94-CB5D-4C95-BC81-BC071DED07B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8F56E36-157C-4A04-9E6F-366CC2C06170}"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CAEFA6B-F95E-4A2A-B993-5554AA1665F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88BD240-29B6-4F55-BDB5-82E37B192748}"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6EE7B61A-415A-4AA6-8D2A-77005743782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9AA2953-493F-4A72-9E86-AF44EFF10A8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30AE782-982B-4B9B-8AA9-D0150A93C77F}"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689A3-84A0-43A6-8FEB-F8D2B0CA3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FD19ECD4-4B0A-41DE-B40D-1C1300CCA7A8}"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8A283D9-17D2-41B9-AFA0-F74AA830A90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0953C9-1E7F-43A9-A396-A0EEDD7CD62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139C86-8C50-4A1B-8FB8-5DA70DADD0F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FD2C66-DE5A-43B8-9D46-2EB2CB0329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810708-C434-4B6B-91E6-CBD5AC2DAEF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FB8520-1D5B-4E87-9892-26D7360B3A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FE7C98-2940-48DB-B03F-5DD43EB7E3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66019C-101E-4EBB-BC50-A1DEF93A3D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6766B1-4CD1-45CA-85CB-018C863ABB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8E794-C006-4512-BBD7-226B5B159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2AEA54-8708-45C5-AEDD-9A29B221A52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A385BE-9B1A-4FD2-B965-EBE902E10D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FBBEE0-0552-4F28-8F78-0C2D57FEF45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1812-DC51-42D6-9180-B52C2D15B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7543B-9CE9-4794-86EA-613DF92F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28E4E-D59F-4B12-8D19-D66D46B8B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6FB79-A406-4571-8F2F-C4D34002C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E3A4D-B90D-4A70-AFA8-6C4454083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EFE64-E0DA-4CA5-BC4C-5B4A5576B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DCE5B-50AE-4EA0-9F09-757C86420F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B4AF6-0B23-4657-BAAF-0E4787CEA2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F714A-02AE-4964-A416-99B5BC7BC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DF3D2-DCD2-4E59-9EC5-53DFF27A0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6C1FF-C24A-45CF-A0DF-147B6AC46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5D8F-5949-4ADE-B409-B71ECC6B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1E3D4B-C0A6-467F-8919-ED4BC7C84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22367-70E0-4074-8DE0-ED59BD453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EA7CB7-8DC3-47B1-B99F-EE2453E1D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A3439-050F-4971-8E34-B9D981807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3AEE0-9896-4602-BF4C-19117ABE8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2D1F46-B241-4174-B476-30530C39A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F043A4-E4DA-4F59-8D1C-B1205F1759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AD3358-01DA-4F05-B237-277D83D314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E5FA54-9923-4AAB-90BD-815084BAEE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C710EA-8661-4BDD-B6A1-AF9DA223A3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DCF7-514D-4DBB-B0E1-BB31442C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A70AF0-7715-41D9-A322-ABB944BBCD5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198AD1-2BBA-470F-885A-C345DB939E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10DCDE-46C3-42EF-94AB-215A37E6204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591E3C-7608-4538-AB72-55BB742BB14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3B1E24-B405-4810-9DA8-BA3DFA90ED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134BF2-39F7-4230-8EDB-F9C297401E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F850F3-55B3-4EEE-9EBF-833253FC02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2595B1-5641-4849-8423-C141FE55145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2B6ADAA-82C9-48C7-A749-0DE33FD23D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188A302-3446-4E4E-BC6B-E0331105BB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E5AF4-4F52-419C-84AE-74F53E06B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2DE259-425D-4012-9D93-A7D67E2FB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716C5A-4F05-4FF1-8DF1-147109DC9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8E76792-4780-4DF8-94A9-8A475A899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9AE5B5-F838-4CA4-AA05-156F56FDB9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AFCF16-7DFB-440C-A43D-9F7A91558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AE27B9-9B54-4EC3-90F6-CA16FB808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F5AA09-62EC-4760-B7EA-512352209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2D7F2D-07A9-4C9B-A05A-A92555344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378398-8A73-435D-9E45-E18A5FC2C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C11DFD-9F60-4844-9687-C599B4D978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11A9-294F-4B48-B1AA-7BEE3ED5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0E56EFA-C0C3-4513-B290-41FCBB65C3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4DA375-EAD3-4067-866D-41678AF14E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B5482-C86E-475D-9B03-EE055A877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A1B04-1903-46E6-AF07-77709A93EC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BB00B-B1B0-4A4A-9F43-210797043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0FCE5-0D95-4828-B46F-8BCB23848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CC56A-5805-4998-8B4B-F23C80262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2172A-2EB2-424D-8C91-92E6C6E70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DFDFA4-B9A6-49BC-88DC-C0B9BA34D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AC490-55B9-4583-BA52-077360E97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2967-27D8-4397-8A3A-EB41D96A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B2EE23-FAD1-413C-8AE7-415DDF00A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CB9F94-8061-48E1-9FAE-20C4E77028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5E3A60-9AA8-4B54-8541-73978A6E2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D08954-E4A7-4995-960A-180746E1A4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49950D-D54E-473A-94EB-47B9D60AA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F5B1A-CB63-47BE-8A06-E03BB190D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DD403-FA68-47EB-86CD-7882A7E25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5649E-35D2-4712-8A2C-CF64B3DF5E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0EE88-D95D-4B2A-B1E4-7AFD26E3E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73D22-FED9-4A00-9797-2456FBF52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D5D6-C392-48D1-91A5-B5FEE54B4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AE841-B42C-4F1C-9E76-9609B3DD2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C3434-12DF-48C5-8C0E-BE85E6BC0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31447-C7E8-4EC0-8F66-EA209D3EB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24B4E3-D989-4C7E-96B5-22C2A3ACD9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E26D9E-DC92-4E46-827B-0E8721CE73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599FB0-35CC-43E4-8A33-C29628EC5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0EDA24-91DA-47C1-A466-1449C3D9E7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6FC0D-2DCD-4705-A798-AACC3D1B81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5A27C0-7467-406F-86AE-F8F558872F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04BC8-CEBD-478F-924D-80A0780918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C754-1AF8-47AB-B05E-1CAB8742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C64880-4E1C-4585-A6BA-5D0888644D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F96C5-5424-48AD-97C5-C89C72A6D5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37BFB-D4DA-4984-BCC9-D68AC25A88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84108-336F-4FAF-BAF4-4A5C65D4F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985FDD-C90C-4E2B-B9E8-97A88EADA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DC4811-1F1C-438A-91C4-1AF74B1DB3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C99948-169A-4BAB-BB8A-D217C791E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8D5CCE-F62D-4322-AADF-27227E107B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14FF0-BA05-40BC-AA83-DDC176A07C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BA2282-0F93-4585-A741-931954E065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6F25-D736-485D-825B-42D9C2DA8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0" y="0"/>
            <a:ext cx="9144000" cy="6856560"/>
            <a:chOff x="0" y="0"/>
            <a:chExt cx="9144000" cy="6856560"/>
          </a:xfrm>
        </p:grpSpPr>
        <p:sp>
          <p:nvSpPr>
            <p:cNvPr id="45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7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8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0" y="2590920"/>
              <a:ext cx="9140760" cy="2949480"/>
              <a:chOff x="0" y="2590920"/>
              <a:chExt cx="9140760" cy="2949480"/>
            </a:xfrm>
          </p:grpSpPr>
          <p:sp>
            <p:nvSpPr>
              <p:cNvPr id="49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9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9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9B57-11E8-49FE-A75A-30E16E97BE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3" name=""/>
          <p:cNvGrpSpPr/>
          <p:nvPr/>
        </p:nvGrpSpPr>
        <p:grpSpPr>
          <a:xfrm>
            <a:off x="3240" y="4267080"/>
            <a:ext cx="9140760" cy="2590920"/>
            <a:chOff x="3240" y="4267080"/>
            <a:chExt cx="9140760" cy="2590920"/>
          </a:xfrm>
        </p:grpSpPr>
        <p:sp>
          <p:nvSpPr>
            <p:cNvPr id="5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35" name=""/>
            <p:cNvGrpSpPr/>
            <p:nvPr/>
          </p:nvGrpSpPr>
          <p:grpSpPr>
            <a:xfrm>
              <a:off x="5600880" y="5897520"/>
              <a:ext cx="1256760" cy="827280"/>
              <a:chOff x="5600880" y="5897520"/>
              <a:chExt cx="1256760" cy="827280"/>
            </a:xfrm>
          </p:grpSpPr>
          <p:sp>
            <p:nvSpPr>
              <p:cNvPr id="5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547" name=""/>
            <p:cNvGrpSpPr/>
            <p:nvPr/>
          </p:nvGrpSpPr>
          <p:grpSpPr>
            <a:xfrm>
              <a:off x="2819520" y="5764320"/>
              <a:ext cx="2581200" cy="1084320"/>
              <a:chOff x="2819520" y="5764320"/>
              <a:chExt cx="2581200" cy="1084320"/>
            </a:xfrm>
          </p:grpSpPr>
          <p:sp>
            <p:nvSpPr>
              <p:cNvPr id="5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6" name=""/>
            <p:cNvGrpSpPr/>
            <p:nvPr/>
          </p:nvGrpSpPr>
          <p:grpSpPr>
            <a:xfrm>
              <a:off x="6553080" y="5334120"/>
              <a:ext cx="2144880" cy="1303200"/>
              <a:chOff x="6553080" y="5334120"/>
              <a:chExt cx="2144880" cy="1303200"/>
            </a:xfrm>
          </p:grpSpPr>
          <p:sp>
            <p:nvSpPr>
              <p:cNvPr id="5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84" name=""/>
            <p:cNvGrpSpPr/>
            <p:nvPr/>
          </p:nvGrpSpPr>
          <p:grpSpPr>
            <a:xfrm>
              <a:off x="8381880" y="4800600"/>
              <a:ext cx="674640" cy="409680"/>
              <a:chOff x="8381880" y="4800600"/>
              <a:chExt cx="674640" cy="409680"/>
            </a:xfrm>
          </p:grpSpPr>
          <p:sp>
            <p:nvSpPr>
              <p:cNvPr id="5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2" name=""/>
              <p:cNvGrpSpPr/>
              <p:nvPr/>
            </p:nvGrpSpPr>
            <p:grpSpPr>
              <a:xfrm>
                <a:off x="8542440" y="4897440"/>
                <a:ext cx="360360" cy="209520"/>
                <a:chOff x="8542440" y="4897440"/>
                <a:chExt cx="360360" cy="209520"/>
              </a:xfrm>
            </p:grpSpPr>
            <p:sp>
              <p:nvSpPr>
                <p:cNvPr id="5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878C-AE19-49AE-98AE-061579B8A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38" name=""/>
          <p:cNvGrpSpPr/>
          <p:nvPr/>
        </p:nvGrpSpPr>
        <p:grpSpPr>
          <a:xfrm>
            <a:off x="3240" y="4267080"/>
            <a:ext cx="9140760" cy="2590920"/>
            <a:chOff x="3240" y="4267080"/>
            <a:chExt cx="9140760" cy="2590920"/>
          </a:xfrm>
        </p:grpSpPr>
        <p:sp>
          <p:nvSpPr>
            <p:cNvPr id="63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0" name=""/>
            <p:cNvGrpSpPr/>
            <p:nvPr/>
          </p:nvGrpSpPr>
          <p:grpSpPr>
            <a:xfrm>
              <a:off x="5600880" y="5897520"/>
              <a:ext cx="1256760" cy="827280"/>
              <a:chOff x="5600880" y="5897520"/>
              <a:chExt cx="1256760" cy="827280"/>
            </a:xfrm>
          </p:grpSpPr>
          <p:sp>
            <p:nvSpPr>
              <p:cNvPr id="64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52" name=""/>
            <p:cNvGrpSpPr/>
            <p:nvPr/>
          </p:nvGrpSpPr>
          <p:grpSpPr>
            <a:xfrm>
              <a:off x="2819520" y="5764320"/>
              <a:ext cx="2581200" cy="1084320"/>
              <a:chOff x="2819520" y="5764320"/>
              <a:chExt cx="2581200" cy="1084320"/>
            </a:xfrm>
          </p:grpSpPr>
          <p:sp>
            <p:nvSpPr>
              <p:cNvPr id="65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6553080" y="5334120"/>
              <a:ext cx="2144880" cy="1303200"/>
              <a:chOff x="6553080" y="5334120"/>
              <a:chExt cx="2144880" cy="1303200"/>
            </a:xfrm>
          </p:grpSpPr>
          <p:sp>
            <p:nvSpPr>
              <p:cNvPr id="67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7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8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689" name=""/>
            <p:cNvGrpSpPr/>
            <p:nvPr/>
          </p:nvGrpSpPr>
          <p:grpSpPr>
            <a:xfrm>
              <a:off x="8381880" y="4800600"/>
              <a:ext cx="674640" cy="409680"/>
              <a:chOff x="8381880" y="4800600"/>
              <a:chExt cx="674640" cy="409680"/>
            </a:xfrm>
          </p:grpSpPr>
          <p:sp>
            <p:nvSpPr>
              <p:cNvPr id="69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9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7" name=""/>
              <p:cNvGrpSpPr/>
              <p:nvPr/>
            </p:nvGrpSpPr>
            <p:grpSpPr>
              <a:xfrm>
                <a:off x="8542440" y="4897440"/>
                <a:ext cx="360360" cy="209520"/>
                <a:chOff x="8542440" y="4897440"/>
                <a:chExt cx="360360" cy="209520"/>
              </a:xfrm>
            </p:grpSpPr>
            <p:sp>
              <p:nvSpPr>
                <p:cNvPr id="69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0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0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3B0F-3C16-4AD2-875F-B75766703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42" name=""/>
          <p:cNvGrpSpPr/>
          <p:nvPr/>
        </p:nvGrpSpPr>
        <p:grpSpPr>
          <a:xfrm>
            <a:off x="1440" y="0"/>
            <a:ext cx="9149040" cy="6851520"/>
            <a:chOff x="1440" y="0"/>
            <a:chExt cx="9149040" cy="6851520"/>
          </a:xfrm>
        </p:grpSpPr>
        <p:sp>
          <p:nvSpPr>
            <p:cNvPr id="74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6" name=""/>
            <p:cNvGrpSpPr/>
            <p:nvPr/>
          </p:nvGrpSpPr>
          <p:grpSpPr>
            <a:xfrm>
              <a:off x="457200" y="0"/>
              <a:ext cx="8093160" cy="6851520"/>
              <a:chOff x="457200" y="0"/>
              <a:chExt cx="8093160" cy="6851520"/>
            </a:xfrm>
          </p:grpSpPr>
          <p:sp>
            <p:nvSpPr>
              <p:cNvPr id="74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1" name=""/>
            <p:cNvGrpSpPr/>
            <p:nvPr/>
          </p:nvGrpSpPr>
          <p:grpSpPr>
            <a:xfrm>
              <a:off x="1440" y="622440"/>
              <a:ext cx="9141120" cy="2493720"/>
              <a:chOff x="1440" y="622440"/>
              <a:chExt cx="9141120" cy="2493720"/>
            </a:xfrm>
          </p:grpSpPr>
          <p:sp>
            <p:nvSpPr>
              <p:cNvPr id="77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0"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78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782"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FF1A-E8F5-48CA-9FB2-8C0DA6318D2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7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20" name=""/>
          <p:cNvGrpSpPr/>
          <p:nvPr/>
        </p:nvGrpSpPr>
        <p:grpSpPr>
          <a:xfrm>
            <a:off x="0" y="0"/>
            <a:ext cx="9148320" cy="6851520"/>
            <a:chOff x="0" y="0"/>
            <a:chExt cx="9148320" cy="6851520"/>
          </a:xfrm>
        </p:grpSpPr>
        <p:sp>
          <p:nvSpPr>
            <p:cNvPr id="821"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4" name=""/>
            <p:cNvGrpSpPr/>
            <p:nvPr/>
          </p:nvGrpSpPr>
          <p:grpSpPr>
            <a:xfrm>
              <a:off x="455400" y="0"/>
              <a:ext cx="8092440" cy="6851520"/>
              <a:chOff x="455400" y="0"/>
              <a:chExt cx="8092440" cy="6851520"/>
            </a:xfrm>
          </p:grpSpPr>
          <p:sp>
            <p:nvSpPr>
              <p:cNvPr id="825"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8"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9" name=""/>
            <p:cNvGrpSpPr/>
            <p:nvPr/>
          </p:nvGrpSpPr>
          <p:grpSpPr>
            <a:xfrm>
              <a:off x="0" y="622440"/>
              <a:ext cx="9140760" cy="2493720"/>
              <a:chOff x="0" y="622440"/>
              <a:chExt cx="9140760" cy="2493720"/>
            </a:xfrm>
          </p:grpSpPr>
          <p:sp>
            <p:nvSpPr>
              <p:cNvPr id="850"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5"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58"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59"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60"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2386-C6A8-43C3-836E-5DDAC11835E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98"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99" name="PlaceHolder 3"/>
          <p:cNvSpPr>
            <a:spLocks noGrp="1"/>
          </p:cNvSpPr>
          <p:nvPr>
            <p:ph type="ftr" idx="4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0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C09D-3064-490B-996F-02AD8911D5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01"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03" name=""/>
          <p:cNvGrpSpPr/>
          <p:nvPr/>
        </p:nvGrpSpPr>
        <p:grpSpPr>
          <a:xfrm>
            <a:off x="228600" y="457200"/>
            <a:ext cx="1246320" cy="1371600"/>
            <a:chOff x="228600" y="457200"/>
            <a:chExt cx="1246320" cy="1371600"/>
          </a:xfrm>
        </p:grpSpPr>
        <p:sp>
          <p:nvSpPr>
            <p:cNvPr id="904"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17" name="PlaceHolder 5"/>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955"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956"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957"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74B5-BF5E-414F-9185-E6DC563722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8"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9" name=""/>
          <p:cNvGrpSpPr/>
          <p:nvPr/>
        </p:nvGrpSpPr>
        <p:grpSpPr>
          <a:xfrm>
            <a:off x="228600" y="1447920"/>
            <a:ext cx="2286000" cy="2514600"/>
            <a:chOff x="228600" y="1447920"/>
            <a:chExt cx="2286000" cy="2514600"/>
          </a:xfrm>
        </p:grpSpPr>
        <p:sp>
          <p:nvSpPr>
            <p:cNvPr id="960"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3760-8946-4683-B8B1-30D0D2494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239E-607F-4BAE-9FD0-1FBF66F7B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55C4-B25F-4B93-A07B-67802389E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5" name="PlaceHolder 2"/>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21E8-D45B-4BFA-BC09-47E16101D7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66" name=""/>
          <p:cNvGrpSpPr/>
          <p:nvPr/>
        </p:nvGrpSpPr>
        <p:grpSpPr>
          <a:xfrm>
            <a:off x="0" y="0"/>
            <a:ext cx="9140760" cy="6850080"/>
            <a:chOff x="0" y="0"/>
            <a:chExt cx="9140760" cy="6850080"/>
          </a:xfrm>
        </p:grpSpPr>
        <p:grpSp>
          <p:nvGrpSpPr>
            <p:cNvPr id="167" name=""/>
            <p:cNvGrpSpPr/>
            <p:nvPr/>
          </p:nvGrpSpPr>
          <p:grpSpPr>
            <a:xfrm>
              <a:off x="2743200" y="3540240"/>
              <a:ext cx="6392880" cy="3309840"/>
              <a:chOff x="2743200" y="3540240"/>
              <a:chExt cx="6392880" cy="3309840"/>
            </a:xfrm>
          </p:grpSpPr>
          <p:sp>
            <p:nvSpPr>
              <p:cNvPr id="168"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76" name="PlaceHolder 4"/>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14" name=""/>
          <p:cNvGrpSpPr/>
          <p:nvPr/>
        </p:nvGrpSpPr>
        <p:grpSpPr>
          <a:xfrm>
            <a:off x="0" y="0"/>
            <a:ext cx="9140760" cy="6850080"/>
            <a:chOff x="0" y="0"/>
            <a:chExt cx="9140760" cy="6850080"/>
          </a:xfrm>
        </p:grpSpPr>
        <p:grpSp>
          <p:nvGrpSpPr>
            <p:cNvPr id="215" name=""/>
            <p:cNvGrpSpPr/>
            <p:nvPr/>
          </p:nvGrpSpPr>
          <p:grpSpPr>
            <a:xfrm>
              <a:off x="2743200" y="3540240"/>
              <a:ext cx="6392880" cy="3309840"/>
              <a:chOff x="2743200" y="3540240"/>
              <a:chExt cx="6392880" cy="3309840"/>
            </a:xfrm>
          </p:grpSpPr>
          <p:sp>
            <p:nvSpPr>
              <p:cNvPr id="21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224" name="PlaceHolder 2"/>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3"/>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6" name="PlaceHolder 4"/>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505C-0EEB-4A18-8E07-FC693725F3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63" name=""/>
          <p:cNvGrpSpPr/>
          <p:nvPr/>
        </p:nvGrpSpPr>
        <p:grpSpPr>
          <a:xfrm>
            <a:off x="0" y="6480"/>
            <a:ext cx="9140760" cy="6851520"/>
            <a:chOff x="0" y="6480"/>
            <a:chExt cx="9140760" cy="6851520"/>
          </a:xfrm>
        </p:grpSpPr>
        <p:sp>
          <p:nvSpPr>
            <p:cNvPr id="26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0" y="6480"/>
              <a:ext cx="9140760" cy="6851520"/>
              <a:chOff x="0" y="6480"/>
              <a:chExt cx="9140760" cy="6851520"/>
            </a:xfrm>
          </p:grpSpPr>
          <p:sp>
            <p:nvSpPr>
              <p:cNvPr id="26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7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8"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79"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80"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BDC7-252D-4BE7-9EFB-52FD7103440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17" name=""/>
          <p:cNvGrpSpPr/>
          <p:nvPr/>
        </p:nvGrpSpPr>
        <p:grpSpPr>
          <a:xfrm>
            <a:off x="0" y="6480"/>
            <a:ext cx="9140760" cy="6851520"/>
            <a:chOff x="0" y="6480"/>
            <a:chExt cx="9140760" cy="6851520"/>
          </a:xfrm>
        </p:grpSpPr>
        <p:grpSp>
          <p:nvGrpSpPr>
            <p:cNvPr id="318" name=""/>
            <p:cNvGrpSpPr/>
            <p:nvPr/>
          </p:nvGrpSpPr>
          <p:grpSpPr>
            <a:xfrm>
              <a:off x="0" y="1843200"/>
              <a:ext cx="9140760" cy="5014800"/>
              <a:chOff x="0" y="1843200"/>
              <a:chExt cx="9140760" cy="5014800"/>
            </a:xfrm>
          </p:grpSpPr>
          <p:sp>
            <p:nvSpPr>
              <p:cNvPr id="319"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324" name=""/>
            <p:cNvGrpSpPr/>
            <p:nvPr/>
          </p:nvGrpSpPr>
          <p:grpSpPr>
            <a:xfrm>
              <a:off x="552600" y="6480"/>
              <a:ext cx="8588160" cy="6851520"/>
              <a:chOff x="552600" y="6480"/>
              <a:chExt cx="8588160" cy="6851520"/>
            </a:xfrm>
          </p:grpSpPr>
          <p:sp>
            <p:nvSpPr>
              <p:cNvPr id="3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3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32" name="PlaceHolder 2"/>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33" name="PlaceHolder 3"/>
          <p:cNvSpPr>
            <a:spLocks noGrp="1"/>
          </p:cNvSpPr>
          <p:nvPr>
            <p:ph type="ftr" idx="23"/>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34" name="PlaceHolder 4"/>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2D9D-31DC-4FE9-8ADD-33918FA7BB8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71" name=""/>
          <p:cNvGrpSpPr/>
          <p:nvPr/>
        </p:nvGrpSpPr>
        <p:grpSpPr>
          <a:xfrm>
            <a:off x="0" y="0"/>
            <a:ext cx="9144000" cy="6856560"/>
            <a:chOff x="0" y="0"/>
            <a:chExt cx="9144000" cy="6856560"/>
          </a:xfrm>
        </p:grpSpPr>
        <p:sp>
          <p:nvSpPr>
            <p:cNvPr id="37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9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8" name=""/>
            <p:cNvGrpSpPr/>
            <p:nvPr/>
          </p:nvGrpSpPr>
          <p:grpSpPr>
            <a:xfrm>
              <a:off x="0" y="2590920"/>
              <a:ext cx="9140760" cy="2949480"/>
              <a:chOff x="0" y="2590920"/>
              <a:chExt cx="9140760" cy="2949480"/>
            </a:xfrm>
          </p:grpSpPr>
          <p:sp>
            <p:nvSpPr>
              <p:cNvPr id="40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3"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14"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15"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93AB-C60E-4E2E-82C6-275B515067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www.sc.edu/beaufort/library/pages/bones/bones.shtml" TargetMode="External"/><Relationship Id="rId4"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ternet Tutorial </a:t>
            </a:r>
            <a:endParaRPr b="0" lang="en-US" sz="4400" spc="-1" strike="noStrike">
              <a:solidFill>
                <a:srgbClr val="b7e7ff"/>
              </a:solidFill>
              <a:latin typeface="Arial"/>
            </a:endParaRPr>
          </a:p>
        </p:txBody>
      </p:sp>
      <p:sp>
        <p:nvSpPr>
          <p:cNvPr id="10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Kansas_De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tions</a:t>
            </a:r>
            <a:endParaRPr b="0" lang="en-US" sz="4400" spc="-1" strike="noStrike">
              <a:solidFill>
                <a:srgbClr val="ffffff"/>
              </a:solidFill>
              <a:latin typeface="Tahoma"/>
            </a:endParaRPr>
          </a:p>
        </p:txBody>
      </p:sp>
      <p:sp>
        <p:nvSpPr>
          <p:cNvPr id="10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EYWORDS--</a:t>
            </a:r>
            <a:r>
              <a:rPr b="0" lang="en-US" sz="2800" spc="-1" strike="noStrike">
                <a:solidFill>
                  <a:srgbClr val="ffffff"/>
                </a:solidFill>
                <a:latin typeface="Tahoma"/>
              </a:rPr>
              <a:t> A word searched for in a search command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ta search--</a:t>
            </a:r>
            <a:r>
              <a:rPr b="0" lang="en-US" sz="2800" spc="-1" strike="noStrike">
                <a:solidFill>
                  <a:srgbClr val="ffffff"/>
                </a:solidFill>
                <a:latin typeface="Tahoma"/>
              </a:rPr>
              <a:t>a search engine that sends user requests to several other search engines and/or databases and returns the results from each one. Meta search enables users to enter search criteria once and access several search engines simultaneous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arch Engines</a:t>
            </a: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use search engines that you know how to us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Examples of easy to use search engin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oogle, Yahoo! Search, Msn Search, and Ask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e Careful </a:t>
            </a:r>
            <a:endParaRPr b="1" lang="en-US" sz="4400" spc="-1" strike="noStrike">
              <a:solidFill>
                <a:srgbClr val="eaeaea"/>
              </a:solidFill>
              <a:latin typeface="Tahoma"/>
            </a:endParaRPr>
          </a:p>
        </p:txBody>
      </p:sp>
      <p:sp>
        <p:nvSpPr>
          <p:cNvPr id="10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very careful on how you search for things because search engines although very helpful can be very stupid at tim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xample of this--If you ask them for a pan pizza they may not only give you pages on pizza and pan pizza, but also information about the god Pan, Pan flutes, frying pans, Peter Pan, Pan Arabian co-operation and mor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stead put what you are looking for in quotation mark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an Piz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e Careful </a:t>
            </a:r>
            <a:endParaRPr b="0" lang="en-US" sz="3900" spc="-1" strike="noStrike">
              <a:solidFill>
                <a:srgbClr val="ffffff"/>
              </a:solidFill>
              <a:latin typeface="Arial"/>
            </a:endParaRPr>
          </a:p>
        </p:txBody>
      </p:sp>
      <p:sp>
        <p:nvSpPr>
          <p:cNvPr id="101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searching for both a cat and a dog don’t just type cat and dog. Type Cat+Dog. Use as least words as you can when searching for things. This cuts down all the extra unneeded popup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arching a Famous Person</a:t>
            </a:r>
            <a:endParaRPr b="0" lang="en-US" sz="4400" spc="-1" strike="noStrike">
              <a:solidFill>
                <a:srgbClr val="ffffff"/>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y you were looking for information on some one famous you could be down "Thomas Alva Edison" but that would not give you pages with names like Thomas A. Edison or Thomas Edison. Instead put in this “Thomas Alva Edison" OR "Thomas A. Edison" OR "Thomas Edison". This will help you take care of this problem.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elling</a:t>
            </a:r>
            <a:endParaRPr b="0" lang="en-US" sz="4400" spc="-1" strike="noStrike">
              <a:solidFill>
                <a:srgbClr val="ccecff"/>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earch engines are very sensitive so make sure you always spell things right. And if something is supposed to be lower case make sure it is. And the same goes with it if it’s suppose to be uppe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a:t>
            </a:r>
            <a:endParaRPr b="0" lang="en-US" sz="4400" spc="-1" strike="noStrike">
              <a:solidFill>
                <a:srgbClr val="ccecff"/>
              </a:solidFill>
              <a:latin typeface="Arial"/>
            </a:endParaRPr>
          </a:p>
        </p:txBody>
      </p:sp>
      <p:sp>
        <p:nvSpPr>
          <p:cNvPr id="10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www.pandia.com/goalgetter/</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http://www.lib.berkeley.edu/TeachingLib/Guides/Internet/FindInfo.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http://www.sc.edu/beaufort/library/pages/bones/bones.shtml</a:t>
            </a:r>
            <a:r>
              <a:rPr b="0" lang="en-US" sz="3200" spc="-1" strike="noStrike" u="sng">
                <a:solidFill>
                  <a:srgbClr val="ffffff"/>
                </a:solidFill>
                <a:uFillTx/>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en.wikipedia.org/wiki/Metasearch_engin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6:18:48Z</dcterms:created>
  <dc:creator>Armour User</dc:creator>
  <dc:description/>
  <dc:language>en-US</dc:language>
  <cp:lastModifiedBy>Armour User</cp:lastModifiedBy>
  <dcterms:modified xsi:type="dcterms:W3CDTF">2007-10-10T15:43:13Z</dcterms:modified>
  <cp:revision>4</cp:revision>
  <dc:subject/>
  <dc:title>Internet Tutorial </dc:title>
</cp:coreProperties>
</file>